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9.jpeg" ContentType="image/jpeg"/>
  <Override PartName="/ppt/media/image8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13.jpeg" ContentType="image/jpeg"/>
  <Override PartName="/ppt/media/image4.png" ContentType="image/png"/>
  <Override PartName="/ppt/media/image24.png" ContentType="image/png"/>
  <Override PartName="/ppt/media/image22.png" ContentType="image/png"/>
  <Override PartName="/ppt/media/image1.jpeg" ContentType="image/jpe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3.jpeg" ContentType="image/jpeg"/>
  <Override PartName="/ppt/media/image2.jpeg" ContentType="image/jpeg"/>
  <Override PartName="/ppt/media/image3.jpeg" ContentType="image/jpeg"/>
  <Override PartName="/ppt/media/image1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4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EAB35-90C0-4FF6-9718-5C3934F1EB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0425D-5DDE-421C-BABE-C78BD5BBC3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831F1-2ECF-40DB-805B-D2F9C2AE10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94DDC-DF8D-42DC-A85F-8F4153965D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322E2-F7E8-43BC-B146-0B0C6E2C66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65383-9A6C-473C-8ED8-1936FFB3B6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20400" y="2158920"/>
            <a:ext cx="8669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0400" y="4231080"/>
            <a:ext cx="8669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20400" y="2158920"/>
            <a:ext cx="42303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62800" y="2158920"/>
            <a:ext cx="42303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20400" y="4231080"/>
            <a:ext cx="42303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62800" y="4231080"/>
            <a:ext cx="42303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20400" y="2158920"/>
            <a:ext cx="279108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51520" y="2158920"/>
            <a:ext cx="279108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82280" y="2158920"/>
            <a:ext cx="279108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20400" y="4231080"/>
            <a:ext cx="279108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51520" y="4231080"/>
            <a:ext cx="279108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82280" y="4231080"/>
            <a:ext cx="279108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320400" y="2158920"/>
            <a:ext cx="8669160" cy="39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20400" y="2158920"/>
            <a:ext cx="866916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20400" y="2158920"/>
            <a:ext cx="423036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62800" y="2158920"/>
            <a:ext cx="423036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20760" y="1235160"/>
            <a:ext cx="8594640" cy="341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20400" y="2158920"/>
            <a:ext cx="42303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62800" y="2158920"/>
            <a:ext cx="423036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20400" y="4231080"/>
            <a:ext cx="42303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20400" y="2158920"/>
            <a:ext cx="8669160" cy="39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20400" y="2158920"/>
            <a:ext cx="423036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762800" y="2158920"/>
            <a:ext cx="42303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762800" y="4231080"/>
            <a:ext cx="42303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20400" y="2158920"/>
            <a:ext cx="42303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762800" y="2158920"/>
            <a:ext cx="42303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320400" y="4231080"/>
            <a:ext cx="8669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20400" y="2158920"/>
            <a:ext cx="8669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20400" y="4231080"/>
            <a:ext cx="8669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0400" y="2158920"/>
            <a:ext cx="42303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762800" y="2158920"/>
            <a:ext cx="42303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20400" y="4231080"/>
            <a:ext cx="42303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762800" y="4231080"/>
            <a:ext cx="42303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20400" y="2158920"/>
            <a:ext cx="279108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251520" y="2158920"/>
            <a:ext cx="279108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82280" y="2158920"/>
            <a:ext cx="279108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320400" y="4231080"/>
            <a:ext cx="279108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251520" y="4231080"/>
            <a:ext cx="279108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82280" y="4231080"/>
            <a:ext cx="279108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20400" y="2158920"/>
            <a:ext cx="866916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20400" y="2158920"/>
            <a:ext cx="423036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62800" y="2158920"/>
            <a:ext cx="423036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20760" y="1235160"/>
            <a:ext cx="8594640" cy="341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0400" y="2158920"/>
            <a:ext cx="42303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62800" y="2158920"/>
            <a:ext cx="423036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20400" y="4231080"/>
            <a:ext cx="42303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0400" y="2158920"/>
            <a:ext cx="423036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62800" y="2158920"/>
            <a:ext cx="42303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62800" y="4231080"/>
            <a:ext cx="42303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0400" y="2158920"/>
            <a:ext cx="42303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62800" y="2158920"/>
            <a:ext cx="42303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20400" y="4231080"/>
            <a:ext cx="8669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hyperlink" Target="http://www.glencoe.com/" TargetMode="External"/><Relationship Id="rId5" Type="http://schemas.openxmlformats.org/officeDocument/2006/relationships/hyperlink" Target="file:///E:/Stroudsburg%202009-2010/Intro%20To%20Business/ITB/Assessments/Ch_01_Assessment.ppt" TargetMode="External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hyperlink" Target="http://www.glencoe.com/" TargetMode="External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image" Target="../media/image2.jpeg"/><Relationship Id="rId14" Type="http://schemas.openxmlformats.org/officeDocument/2006/relationships/slideLayout" Target="../slideLayouts/slideLayout13.xml"/><Relationship Id="rId15" Type="http://schemas.openxmlformats.org/officeDocument/2006/relationships/slideLayout" Target="../slideLayouts/slideLayout14.xml"/><Relationship Id="rId16" Type="http://schemas.openxmlformats.org/officeDocument/2006/relationships/slideLayout" Target="../slideLayouts/slideLayout15.xml"/><Relationship Id="rId17" Type="http://schemas.openxmlformats.org/officeDocument/2006/relationships/slideLayout" Target="../slideLayouts/slideLayout16.xml"/><Relationship Id="rId18" Type="http://schemas.openxmlformats.org/officeDocument/2006/relationships/slideLayout" Target="../slideLayouts/slideLayout17.xml"/><Relationship Id="rId19" Type="http://schemas.openxmlformats.org/officeDocument/2006/relationships/slideLayout" Target="../slideLayouts/slideLayout18.xml"/><Relationship Id="rId20" Type="http://schemas.openxmlformats.org/officeDocument/2006/relationships/slideLayout" Target="../slideLayouts/slideLayout19.xml"/><Relationship Id="rId21" Type="http://schemas.openxmlformats.org/officeDocument/2006/relationships/slideLayout" Target="../slideLayouts/slideLayout20.xml"/><Relationship Id="rId22" Type="http://schemas.openxmlformats.org/officeDocument/2006/relationships/slideLayout" Target="../slideLayouts/slideLayout21.xml"/><Relationship Id="rId23" Type="http://schemas.openxmlformats.org/officeDocument/2006/relationships/slideLayout" Target="../slideLayouts/slideLayout22.xml"/><Relationship Id="rId24" Type="http://schemas.openxmlformats.org/officeDocument/2006/relationships/slideLayout" Target="../slideLayouts/slideLayout23.xml"/><Relationship Id="rId2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6" descr="bkgrd idea 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4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20400" y="2158920"/>
            <a:ext cx="866916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>
              <a:lnSpc>
                <a:spcPct val="11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4600" indent="-30132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6280" indent="-2008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07960" indent="-2008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10440" indent="-2008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10440" indent="-2008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10440" indent="-2008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0">
            <a:hlinkClick r:id="" action="ppaction://hlinkshowjump?jump=previousslide"/>
          </p:cNvPr>
          <p:cNvSpPr/>
          <p:nvPr/>
        </p:nvSpPr>
        <p:spPr>
          <a:xfrm>
            <a:off x="7297560" y="6384960"/>
            <a:ext cx="52560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11">
            <a:hlinkClick r:id="" action="ppaction://hlinkshowjump?jump=nextslide"/>
          </p:cNvPr>
          <p:cNvSpPr/>
          <p:nvPr/>
        </p:nvSpPr>
        <p:spPr>
          <a:xfrm>
            <a:off x="7942320" y="6384960"/>
            <a:ext cx="52524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17">
            <a:hlinkClick r:id="" action="ppaction://hlinkshowjump?jump=endshow"/>
          </p:cNvPr>
          <p:cNvSpPr/>
          <p:nvPr/>
        </p:nvSpPr>
        <p:spPr>
          <a:xfrm>
            <a:off x="343080" y="6303960"/>
            <a:ext cx="71244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8">
            <a:hlinkClick r:id="rId4"/>
          </p:cNvPr>
          <p:cNvSpPr/>
          <p:nvPr/>
        </p:nvSpPr>
        <p:spPr>
          <a:xfrm>
            <a:off x="1582560" y="6303960"/>
            <a:ext cx="71280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9"/>
          <p:cNvSpPr/>
          <p:nvPr/>
        </p:nvSpPr>
        <p:spPr>
          <a:xfrm>
            <a:off x="2857680" y="6303960"/>
            <a:ext cx="98424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20">
            <a:hlinkClick r:id="rId5"/>
          </p:cNvPr>
          <p:cNvSpPr/>
          <p:nvPr/>
        </p:nvSpPr>
        <p:spPr>
          <a:xfrm>
            <a:off x="4448160" y="6303960"/>
            <a:ext cx="177660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6" descr="bkgrd idea 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">
            <a:hlinkClick r:id="" action="ppaction://hlinkshowjump?jump=previousslide"/>
          </p:cNvPr>
          <p:cNvSpPr/>
          <p:nvPr/>
        </p:nvSpPr>
        <p:spPr>
          <a:xfrm>
            <a:off x="7297560" y="6384960"/>
            <a:ext cx="52560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1">
            <a:hlinkClick r:id="" action="ppaction://hlinkshowjump?jump=nextslide"/>
          </p:cNvPr>
          <p:cNvSpPr/>
          <p:nvPr/>
        </p:nvSpPr>
        <p:spPr>
          <a:xfrm>
            <a:off x="7942320" y="6384960"/>
            <a:ext cx="52524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7">
            <a:hlinkClick r:id="" action="ppaction://hlinkshowjump?jump=endshow"/>
          </p:cNvPr>
          <p:cNvSpPr/>
          <p:nvPr/>
        </p:nvSpPr>
        <p:spPr>
          <a:xfrm>
            <a:off x="343080" y="6303960"/>
            <a:ext cx="71244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8">
            <a:hlinkClick r:id="rId3"/>
          </p:cNvPr>
          <p:cNvSpPr/>
          <p:nvPr/>
        </p:nvSpPr>
        <p:spPr>
          <a:xfrm>
            <a:off x="1582560" y="6303960"/>
            <a:ext cx="71280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9"/>
          <p:cNvSpPr/>
          <p:nvPr/>
        </p:nvSpPr>
        <p:spPr>
          <a:xfrm>
            <a:off x="2857680" y="6303960"/>
            <a:ext cx="98424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20"/>
          <p:cNvSpPr/>
          <p:nvPr/>
        </p:nvSpPr>
        <p:spPr>
          <a:xfrm>
            <a:off x="4448160" y="6303960"/>
            <a:ext cx="177660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5">
            <a:hlinkClick r:id="" action="ppaction://hlinkshowjump?jump=previousslide"/>
          </p:cNvPr>
          <p:cNvSpPr/>
          <p:nvPr/>
        </p:nvSpPr>
        <p:spPr>
          <a:xfrm>
            <a:off x="7297560" y="6384960"/>
            <a:ext cx="52560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6">
            <a:hlinkClick r:id="" action="ppaction://hlinkshowjump?jump=nextslide"/>
          </p:cNvPr>
          <p:cNvSpPr/>
          <p:nvPr/>
        </p:nvSpPr>
        <p:spPr>
          <a:xfrm>
            <a:off x="7942320" y="6384960"/>
            <a:ext cx="52524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7" descr="section 11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8" descr="white glow"/>
          <p:cNvPicPr/>
          <p:nvPr/>
        </p:nvPicPr>
        <p:blipFill>
          <a:blip r:embed="rId5"/>
          <a:stretch/>
        </p:blipFill>
        <p:spPr>
          <a:xfrm>
            <a:off x="469800" y="2952720"/>
            <a:ext cx="457200" cy="3603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9" descr="white glow"/>
          <p:cNvPicPr/>
          <p:nvPr/>
        </p:nvPicPr>
        <p:blipFill>
          <a:blip r:embed="rId6"/>
          <a:stretch/>
        </p:blipFill>
        <p:spPr>
          <a:xfrm>
            <a:off x="3035160" y="1914480"/>
            <a:ext cx="457200" cy="3603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0" descr="white glow"/>
          <p:cNvPicPr/>
          <p:nvPr/>
        </p:nvPicPr>
        <p:blipFill>
          <a:blip r:embed="rId7"/>
          <a:stretch/>
        </p:blipFill>
        <p:spPr>
          <a:xfrm>
            <a:off x="1633680" y="3516480"/>
            <a:ext cx="304560" cy="2394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1" descr="white glow"/>
          <p:cNvPicPr/>
          <p:nvPr/>
        </p:nvPicPr>
        <p:blipFill>
          <a:blip r:embed="rId8"/>
          <a:stretch/>
        </p:blipFill>
        <p:spPr>
          <a:xfrm>
            <a:off x="2808360" y="3103560"/>
            <a:ext cx="304560" cy="2397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2" descr="white glow"/>
          <p:cNvPicPr/>
          <p:nvPr/>
        </p:nvPicPr>
        <p:blipFill>
          <a:blip r:embed="rId9"/>
          <a:stretch/>
        </p:blipFill>
        <p:spPr>
          <a:xfrm>
            <a:off x="3773520" y="3019320"/>
            <a:ext cx="262080" cy="2066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3" descr="white glow"/>
          <p:cNvPicPr/>
          <p:nvPr/>
        </p:nvPicPr>
        <p:blipFill>
          <a:blip r:embed="rId10"/>
          <a:stretch/>
        </p:blipFill>
        <p:spPr>
          <a:xfrm>
            <a:off x="4017960" y="2951280"/>
            <a:ext cx="262080" cy="2062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4" descr="white glow"/>
          <p:cNvPicPr/>
          <p:nvPr/>
        </p:nvPicPr>
        <p:blipFill>
          <a:blip r:embed="rId11"/>
          <a:stretch/>
        </p:blipFill>
        <p:spPr>
          <a:xfrm>
            <a:off x="4626000" y="2949480"/>
            <a:ext cx="262080" cy="2066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5" descr="white glow"/>
          <p:cNvPicPr/>
          <p:nvPr/>
        </p:nvPicPr>
        <p:blipFill>
          <a:blip r:embed="rId12"/>
          <a:stretch/>
        </p:blipFill>
        <p:spPr>
          <a:xfrm>
            <a:off x="4836960" y="3016080"/>
            <a:ext cx="262080" cy="206640"/>
          </a:xfrm>
          <a:prstGeom prst="rect">
            <a:avLst/>
          </a:prstGeom>
          <a:ln w="0">
            <a:noFill/>
          </a:ln>
        </p:spPr>
      </p:pic>
      <p:sp>
        <p:nvSpPr>
          <p:cNvPr id="63" name="Text Box 16"/>
          <p:cNvSpPr/>
          <p:nvPr/>
        </p:nvSpPr>
        <p:spPr>
          <a:xfrm>
            <a:off x="5431680" y="657360"/>
            <a:ext cx="15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apter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7"/>
          <p:cNvSpPr/>
          <p:nvPr/>
        </p:nvSpPr>
        <p:spPr>
          <a:xfrm>
            <a:off x="5433120" y="1096920"/>
            <a:ext cx="2925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b05"/>
                </a:solidFill>
                <a:latin typeface="Arial"/>
              </a:rPr>
              <a:t>Basic Economic</a:t>
            </a:r>
            <a:br>
              <a:rPr sz="2800"/>
            </a:br>
            <a:r>
              <a:rPr b="1" lang="en-US" sz="2800" spc="-1" strike="noStrike">
                <a:solidFill>
                  <a:srgbClr val="ffcb05"/>
                </a:solidFill>
                <a:latin typeface="Arial"/>
              </a:rPr>
              <a:t>Concep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8"/>
          <p:cNvSpPr/>
          <p:nvPr/>
        </p:nvSpPr>
        <p:spPr>
          <a:xfrm>
            <a:off x="5430240" y="2208240"/>
            <a:ext cx="178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tion 1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9"/>
          <p:cNvSpPr/>
          <p:nvPr/>
        </p:nvSpPr>
        <p:spPr>
          <a:xfrm>
            <a:off x="5433480" y="2647800"/>
            <a:ext cx="2964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b05"/>
                </a:solidFill>
                <a:latin typeface="Arial"/>
              </a:rPr>
              <a:t>A Look at Wants</a:t>
            </a:r>
            <a:br>
              <a:rPr sz="2800"/>
            </a:br>
            <a:r>
              <a:rPr b="1" lang="en-US" sz="2800" spc="-1" strike="noStrike">
                <a:solidFill>
                  <a:srgbClr val="ffcb05"/>
                </a:solidFill>
                <a:latin typeface="Arial"/>
              </a:rPr>
              <a:t>and Ne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1">
            <a:hlinkClick r:id="" action="ppaction://hlinkshowjump?jump=endshow"/>
          </p:cNvPr>
          <p:cNvSpPr/>
          <p:nvPr/>
        </p:nvSpPr>
        <p:spPr>
          <a:xfrm>
            <a:off x="6118200" y="3938760"/>
            <a:ext cx="2278080" cy="34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2"/>
          <p:cNvSpPr/>
          <p:nvPr/>
        </p:nvSpPr>
        <p:spPr>
          <a:xfrm>
            <a:off x="6118200" y="4957920"/>
            <a:ext cx="2278080" cy="34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3"/>
          <p:cNvSpPr/>
          <p:nvPr/>
        </p:nvSpPr>
        <p:spPr>
          <a:xfrm>
            <a:off x="6118200" y="5477040"/>
            <a:ext cx="2278080" cy="34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28"/>
          <p:cNvSpPr/>
          <p:nvPr/>
        </p:nvSpPr>
        <p:spPr>
          <a:xfrm>
            <a:off x="6118200" y="4448160"/>
            <a:ext cx="227808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4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320400" y="2158920"/>
            <a:ext cx="866916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>
              <a:lnSpc>
                <a:spcPct val="110000"/>
              </a:lnSpc>
              <a:spcBef>
                <a:spcPts val="799"/>
              </a:spcBef>
              <a:buSzPct val="10287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4600" indent="-30132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6280" indent="-2008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07960" indent="-2008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10440" indent="-2008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10440" indent="-2008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10440" indent="-2008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4"/>
    <p:sldLayoutId id="2147483663" r:id="rId15"/>
    <p:sldLayoutId id="2147483664" r:id="rId16"/>
    <p:sldLayoutId id="2147483665" r:id="rId17"/>
    <p:sldLayoutId id="2147483666" r:id="rId18"/>
    <p:sldLayoutId id="2147483667" r:id="rId19"/>
    <p:sldLayoutId id="2147483668" r:id="rId20"/>
    <p:sldLayoutId id="2147483669" r:id="rId21"/>
    <p:sldLayoutId id="2147483670" r:id="rId22"/>
    <p:sldLayoutId id="2147483671" r:id="rId23"/>
    <p:sldLayoutId id="2147483672" r:id="rId24"/>
    <p:sldLayoutId id="2147483673" r:id="rId2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image" Target="../media/image9.jpeg"/><Relationship Id="rId6" Type="http://schemas.openxmlformats.org/officeDocument/2006/relationships/image" Target="../media/image9.jpeg"/><Relationship Id="rId7" Type="http://schemas.openxmlformats.org/officeDocument/2006/relationships/image" Target="../media/image9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jpe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6" descr="reading guide copy"/>
          <p:cNvPicPr/>
          <p:nvPr/>
        </p:nvPicPr>
        <p:blipFill>
          <a:blip r:embed="rId1"/>
          <a:stretch/>
        </p:blipFill>
        <p:spPr>
          <a:xfrm>
            <a:off x="420840" y="1195560"/>
            <a:ext cx="8467560" cy="501156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3"/>
          <p:cNvSpPr/>
          <p:nvPr/>
        </p:nvSpPr>
        <p:spPr>
          <a:xfrm>
            <a:off x="1094760" y="209700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40000"/>
                </a:solidFill>
                <a:latin typeface="Arial"/>
              </a:rPr>
              <a:t>Go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968400" y="2579760"/>
            <a:ext cx="71438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1880" indent="-461880">
              <a:lnSpc>
                <a:spcPct val="100000"/>
              </a:lnSpc>
              <a:spcBef>
                <a:spcPts val="11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5"/>
          <p:cNvSpPr/>
          <p:nvPr/>
        </p:nvSpPr>
        <p:spPr>
          <a:xfrm>
            <a:off x="1093680" y="2565360"/>
            <a:ext cx="7112160" cy="42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110000"/>
              </a:lnSpc>
              <a:spcBef>
                <a:spcPts val="2401"/>
              </a:spcBef>
              <a:spcAft>
                <a:spcPts val="300"/>
              </a:spcAft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the changing status of U.S. employ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lnSpc>
                <a:spcPct val="110000"/>
              </a:lnSpc>
              <a:spcBef>
                <a:spcPts val="2401"/>
              </a:spcBef>
              <a:spcAft>
                <a:spcPts val="300"/>
              </a:spcAft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uss the role of business in the U.S. econom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lnSpc>
                <a:spcPct val="110000"/>
              </a:lnSpc>
              <a:spcBef>
                <a:spcPts val="2401"/>
              </a:spcBef>
              <a:spcAft>
                <a:spcPts val="300"/>
              </a:spcAft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three major types of busin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lnSpc>
                <a:spcPct val="110000"/>
              </a:lnSpc>
              <a:spcBef>
                <a:spcPts val="2401"/>
              </a:spcBef>
              <a:spcAft>
                <a:spcPts val="300"/>
              </a:spcAft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lnSpc>
                <a:spcPct val="110000"/>
              </a:lnSpc>
              <a:spcBef>
                <a:spcPts val="2401"/>
              </a:spcBef>
              <a:spcAft>
                <a:spcPts val="300"/>
              </a:spcAft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5"/>
          <p:cNvSpPr/>
          <p:nvPr/>
        </p:nvSpPr>
        <p:spPr>
          <a:xfrm>
            <a:off x="711360" y="668160"/>
            <a:ext cx="787320" cy="3988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b05"/>
                </a:solidFill>
                <a:latin typeface="Arial"/>
              </a:rPr>
              <a:t>5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1"/>
          <p:cNvSpPr/>
          <p:nvPr/>
        </p:nvSpPr>
        <p:spPr>
          <a:xfrm>
            <a:off x="3073320" y="184320"/>
            <a:ext cx="4673520" cy="3697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40000"/>
                </a:solidFill>
                <a:latin typeface="Arial"/>
              </a:rPr>
              <a:t>Business and the Economy</a:t>
            </a: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20400" y="2158920"/>
            <a:ext cx="8669160" cy="396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1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2014, businesses worldwide produced over $40 trillion of goods and services. How many zeros is tha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 responsible for $17 trill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3"/>
          <p:cNvSpPr/>
          <p:nvPr/>
        </p:nvSpPr>
        <p:spPr>
          <a:xfrm>
            <a:off x="711360" y="668160"/>
            <a:ext cx="787320" cy="3988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b05"/>
                </a:solidFill>
                <a:latin typeface="Arial"/>
              </a:rPr>
              <a:t>5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4"/>
          <p:cNvSpPr/>
          <p:nvPr/>
        </p:nvSpPr>
        <p:spPr>
          <a:xfrm>
            <a:off x="3073320" y="184320"/>
            <a:ext cx="4673520" cy="3697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Rectangle 1" descr=""/>
          <p:cNvPicPr/>
          <p:nvPr/>
        </p:nvPicPr>
        <p:blipFill>
          <a:blip r:embed="rId5"/>
          <a:stretch/>
        </p:blipFill>
        <p:spPr>
          <a:xfrm>
            <a:off x="-12600" y="3736800"/>
            <a:ext cx="9169200" cy="16034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89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40000"/>
                </a:solidFill>
                <a:latin typeface="Arial"/>
              </a:rPr>
              <a:t>Business and the Economy</a:t>
            </a: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20400" y="1891800"/>
            <a:ext cx="8669160" cy="42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1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many employees do you think most businesses in the U.S. have? Put the following in order from largest to smalle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3"/>
          <p:cNvSpPr/>
          <p:nvPr/>
        </p:nvSpPr>
        <p:spPr>
          <a:xfrm>
            <a:off x="711360" y="668160"/>
            <a:ext cx="787320" cy="3988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b05"/>
                </a:solidFill>
                <a:latin typeface="Arial"/>
              </a:rPr>
              <a:t>5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4"/>
          <p:cNvSpPr/>
          <p:nvPr/>
        </p:nvSpPr>
        <p:spPr>
          <a:xfrm>
            <a:off x="3073320" y="184320"/>
            <a:ext cx="4673520" cy="3697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Rectangle 3" descr=""/>
          <p:cNvPicPr/>
          <p:nvPr/>
        </p:nvPicPr>
        <p:blipFill>
          <a:blip r:embed="rId2"/>
          <a:stretch/>
        </p:blipFill>
        <p:spPr>
          <a:xfrm>
            <a:off x="2511360" y="4243320"/>
            <a:ext cx="4194360" cy="743040"/>
          </a:xfrm>
          <a:prstGeom prst="rect">
            <a:avLst/>
          </a:prstGeom>
          <a:ln w="0">
            <a:noFill/>
          </a:ln>
        </p:spPr>
      </p:pic>
      <p:pic>
        <p:nvPicPr>
          <p:cNvPr id="171" name="Rectangle 7" descr=""/>
          <p:cNvPicPr/>
          <p:nvPr/>
        </p:nvPicPr>
        <p:blipFill>
          <a:blip r:embed="rId3"/>
          <a:stretch/>
        </p:blipFill>
        <p:spPr>
          <a:xfrm>
            <a:off x="2328840" y="4700520"/>
            <a:ext cx="4145040" cy="749520"/>
          </a:xfrm>
          <a:prstGeom prst="rect">
            <a:avLst/>
          </a:prstGeom>
          <a:ln w="0">
            <a:noFill/>
          </a:ln>
        </p:spPr>
      </p:pic>
      <p:pic>
        <p:nvPicPr>
          <p:cNvPr id="172" name="Rectangle 8" descr=""/>
          <p:cNvPicPr/>
          <p:nvPr/>
        </p:nvPicPr>
        <p:blipFill>
          <a:blip r:embed="rId4"/>
          <a:stretch/>
        </p:blipFill>
        <p:spPr>
          <a:xfrm>
            <a:off x="2328840" y="3736800"/>
            <a:ext cx="4145040" cy="743040"/>
          </a:xfrm>
          <a:prstGeom prst="rect">
            <a:avLst/>
          </a:prstGeom>
          <a:ln w="0">
            <a:noFill/>
          </a:ln>
        </p:spPr>
      </p:pic>
      <p:pic>
        <p:nvPicPr>
          <p:cNvPr id="173" name="Rectangle 9" descr=""/>
          <p:cNvPicPr/>
          <p:nvPr/>
        </p:nvPicPr>
        <p:blipFill>
          <a:blip r:embed="rId5"/>
          <a:stretch/>
        </p:blipFill>
        <p:spPr>
          <a:xfrm>
            <a:off x="2328840" y="5353200"/>
            <a:ext cx="4145040" cy="7426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2431 -0.03704 C 0.20295 -0.02708 0.2816 -0.01528 0.36042 -0.00741 C 0.36267 -0.00718 0.36424 -0.01088 0.36597 -0.01296 C 0.37118 -0.01945 0.37622 -0.02662 0.38125 -0.03333 C 0.39635 -0.05347 0.41059 -0.07431 0.42569 -0.09445 C 0.42656 -0.09745 0.42708 -0.10093 0.42847 -0.1037 C 0.42951 -0.10602 0.43177 -0.10695 0.43264 -0.10926 C 0.43455 -0.11435 0.43438 -0.12037 0.43542 -0.12593 C 0.43472 -0.14445 0.43628 -0.17639 0.42847 -0.19445 C 0.42674 -0.19861 0.42361 -0.20162 0.42153 -0.20556 C 0.41528 -0.2169 0.41302 -0.23033 0.40208 -0.23519 C 0.39549 -0.23079 0.39236 -0.22708 0.38681 -0.22037 C 0.37205 -0.20255 0.35955 -0.18843 0.35069 -0.16482 C 0.35122 -0.14537 0.35851 -0.07431 0.34375 -0.05741 C 0.33542 -0.04769 0.31927 -0.04676 0.30903 -0.04445 C 0.30208 -0.04514 0.29497 -0.04445 0.28819 -0.0463 C 0.2625 -0.05347 0.23854 -0.09051 0.22552 -0.11852 C 0.21684 -0.13796 0.21076 -0.15972 0.20208 -0.17963 C 0.1934 -0.19908 0.18403 -0.19977 0.17014 -0.20926 C 0.16597 -0.21181 0.15903 -0.21852 0.15903 -0.21852 C 0.11753 -0.30139 0.02413 -0.22917 -0.03542 -0.20926 C -0.04653 -0.19445 -0.04236 -0.20301 -0.04792 -0.18333 C -0.04844 -0.17963 -0.04931 -0.17593 -0.04931 -0.17222 C -0.04931 -0.16042 -0.04948 -0.14861 -0.04792 -0.13704 C -0.04774 -0.13542 -0.04097 -0.12824 -0.03958 -0.12778 C -0.03576 -0.12662 -0.01562 -0.12338 -0.00903 -0.12222 C 0.02257 -0.12338 0.03733 -0.11412 0.05903 -0.13333 C 0.06615 -0.14792 0.06302 -0.16528 0.05903 -0.18148 C 0.05 -0.21736 0.01267 -0.23241 -0.01181 -0.23704 C -0.01875 -0.23843 -0.02569 -0.2382 -0.03264 -0.23889 C -0.05903 -0.23773 -0.08559 -0.23843 -0.11181 -0.23519 C -0.12778 -0.23333 -0.14375 -0.22245 -0.15903 -0.21667 C -0.16267 -0.21366 -0.16684 -0.2125 -0.17014 -0.20926 C -0.17587 -0.20347 -0.17882 -0.19097 -0.18281 -0.18333 C -0.18316 -0.18079 -0.18403 -0.17847 -0.18403 -0.17593 C -0.18403 -0.13889 -0.18941 -0.13866 -0.17014 -0.13519 C -0.16597 -0.13449 -0.16181 -0.13403 -0.15764 -0.13333 C -0.14149 -0.13403 -0.125 -0.13218 -0.10903 -0.13519 C -0.06215 -0.14421 -0.01545 -0.16458 0.03125 -0.17593 C 0.06441 -0.18403 0.09861 -0.17894 0.13264 -0.17963 C 0.1651 -0.18495 0.19722 -0.19421 0.22969 -0.19815 C 0.25469 -0.1956 0.25903 -0.20046 0.27431 -0.18704 C 0.28142 -0.17269 0.27882 -0.18009 0.28264 -0.16482 C 0.2849 -0.14375 0.28559 -0.14421 0.28125 -0.11482 C 0.27639 -0.08264 0.23316 -0.07639 0.2158 -0.07408 C 0.20625 -0.07269 0.19653 -0.07153 0.18681 -0.07037 C 0.1474 -0.07292 0.10799 -0.07222 0.06858 -0.07778 C 0.03438 -0.08264 0.00191 -0.10255 -0.02986 -0.11852 C -0.03281 -0.12245 -0.03715 -0.125 -0.03958 -0.12963 C -0.0474 -0.14445 -0.05035 -0.16296 -0.05486 -0.17963 C -0.05955 -0.1963 -0.06667 -0.21088 -0.07569 -0.22408 C -0.07795 -0.22732 -0.07986 -0.23125 -0.08264 -0.23333 C -0.10035 -0.24676 -0.10573 -0.24653 -0.12431 -0.25185 C -0.14253 -0.24745 -0.16076 -0.2456 -0.17847 -0.23889 C -0.21285 -0.22593 -0.27014 -0.18033 -0.28958 -0.13704 C -0.28767 -0.12292 -0.28715 -0.1081 -0.28403 -0.09445 C -0.2809 -0.08079 -0.26458 -0.06852 -0.25625 -0.06296 C -0.23073 -0.04583 -0.19965 -0.04167 -0.1717 -0.03889 C -0.13142 -0.04144 -0.09531 -0.0375 -0.05764 -0.05185 C -0.01858 -0.06667 0.0184 -0.09074 0.05764 -0.10556 C 0.09392 -0.11945 0.13229 -0.12755 0.17014 -0.13148 C 0.18628 -0.13542 0.20087 -0.14236 0.21736 -0.14445 C 0.22552 -0.14676 0.24028 -0.15324 0.24792 -0.14445 C 0.25035 -0.14167 0.24288 -0.13866 0.24097 -0.13519 C 0.23819 -0.13009 0.23663 -0.12384 0.23403 -0.11852 C 0.22587 -0.10255 0.2151 -0.08889 0.20747 -0.07222 C 0.20382 -0.06389 0.20122 -0.05718 0.19514 -0.05185 C 0.175 -0.09908 0.15816 -0.14861 0.14497 -0.2 C 0.13715 -0.23125 0.13299 -0.2662 0.11302 -0.28889 C 0.08715 -0.31875 0.05174 -0.32477 0.01875 -0.32778 C -0.00625 -0.32708 -0.03125 -0.32824 -0.05625 -0.32593 C -0.08611 -0.32315 -0.11545 -0.31296 -0.14514 -0.30741 C -0.17083 -0.29745 -0.1974 -0.29074 -0.22292 -0.27963 C -0.24132 -0.27153 -0.25799 -0.25671 -0.27569 -0.2463 C -0.27917 -0.24167 -0.2849 -0.23796 -0.28542 -0.23148 C -0.28663 -0.21574 -0.27795 -0.2125 -0.26875 -0.20741 C -0.25382 -0.19908 -0.2375 -0.19375 -0.22153 -0.19074 C -0.23368 -0.18542 -0.23993 -0.17361 -0.24931 -0.16111 C -0.26302 -0.11551 -0.28194 -0.07801 -0.29097 -0.02963 C -0.29253 1.11111000000025E-006 -0.2941 0.0169 -0.29097 0.05 C -0.28906 0.07014 -0.28403 0.06759 -0.27569 0.08148 C -0.27292 0.08611 -0.27153 0.0919 -0.26875 0.0963 C -0.25729 0.11435 -0.2408 0.11991 -0.22431 0.12222 C -0.18194 0.1162 -0.14045 0.10555 -0.09792 0.10185 C -0.08941 0.09861 -0.08125 0.09444 -0.07292 0.09074 C -0.05677 0.06921 -0.04392 0.04583 -0.03681 0.01667 C -0.03125 -0.00625 -0.02413 -0.04583 -0.00903 -0.06296 C 0.00851 -0.08264 0.02535 -0.08704 0.04792 -0.09074 C 0.0842 -0.08866 0.08125 -0.09607 0.10208 -0.06482 C 0.10382 -0.0581 0.10938 -0.03611 0.11042 -0.02963 C 0.11181 -0.02107 0.11302 -0.0037 0.11302 -0.0037 C 0.10816 0.06088 0.10191 0.14722 0.07014 0.2 C 0.04149 0.18079 0.00816 0.19028 -0.02292 0.18148 C -0.10295 0.15903 -0.02934 0.17917 -0.08958 0.15555 C -0.14965 0.13194 -0.2092 0.11296 -0.27153 0.1037 C -0.33212 0.10903 -0.32535 0.1 -0.37153 0.12778 C -0.38542 0.13611 -0.40035 0.1493 -0.41181 0.16296 C -0.41858 0.17106 -0.43125 0.18889 -0.43125 0.18889 C -0.43177 0.19259 -0.43281 0.1963 -0.43264 0.2 C -0.43125 0.22176 -0.41476 0.2213 -0.40208 0.22407 C -0.31701 0.21597 -0.23403 0.19954 -0.14931 0.18704 C -0.12656 0.18032 -0.10399 0.17338 -0.08125 0.16667 C -0.06927 0.16296 -0.00069 0.12847 0.02292 0.11667 C 0.03316 0.11157 0.04201 0.10208 0.05208 0.0963 C 0.06007 0.09167 0.0691 0.09005 0.07708 0.08518 C 0.10642 0.06736 0.13351 0.0412 0.16181 0.02037 C 0.16528 0.01782 0.16927 0.01713 0.17292 0.01481 C 0.17622 0.01273 0.17951 0.00995 0.18264 0.00741 C 0.18663 0.00417 0.19514 1.11111E-006 0.19514 1.11111E-006 C 0.20365 0.00046 0.23559 -0.00347 0.24792 0.00741 C 0.25434 0.02037 0.25069 0.01597 0.25764 0.02222 C 0.25712 0.03449 0.25747 0.04699 0.25625 0.05926 C 0.25608 0.06157 0.25417 0.06273 0.25347 0.06481 C 0.25087 0.07292 0.25087 0.08472 0.24514 0.09074 C 0.23333 0.10324 0.20573 0.1037 0.19097 0.10555 C 0.03819 0.10347 0.10191 0.11111 0.04375 0.1 C 0.0349 0.10324 0.0283 0.10926 0.02014 0.11296 C 0.01684 0.11944 0.01458 0.12153 0.00903 0.12407 C 0.00816 0.12592 0.00694 0.12755 0.00608 0.12963 C 0.00469 0.13449 0.00573 0.14815 0.00069 0.14815 E">
                                      <p:cBhvr>
                                        <p:cTn id="99" dur="2000" fill="hold"/>
                                        <p:tgtEl>
                                          <p:spTgt spid="1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8646 0.03935 C 0.29861 0.03542 0.30347 0.01991 0.30868 0.00602 C 0.30816 -0.00394 0.30833 -0.01389 0.30729 -0.02361 C 0.3066 -0.02917 0.30226 -0.03403 0.30035 -0.03843 C 0.29896 -0.04167 0.29722 -0.04907 0.29618 -0.05324 C 0.29844 -0.07153 0.29687 -0.06343 0.30729 -0.0588 C 0.31649 -0.04954 0.32726 -0.04375 0.33646 -0.03472 C 0.33837 -0.03287 0.3401 -0.03102 0.34201 -0.02917 C 0.34479 -0.02662 0.35365 -0.0206 0.35035 -0.02176 C 0.34219 -0.02454 0.32535 -0.02731 0.32535 -0.02731 C 0.30139 -0.04005 0.27378 -0.04468 0.24896 -0.05324 C 0.2309 -0.05949 0.21302 -0.06829 0.19479 -0.07361 C 0.16233 -0.08287 0.12934 -0.08333 0.09618 -0.08472 C 0.06042 -0.11667 -0.10052 -0.08542 -0.17465 -0.08102 C -0.2441 -0.06806 -0.31632 -0.06481 -0.38438 -0.04213 C -0.38524 -0.04514 -0.38819 -0.04838 -0.38715 -0.05139 C -0.38542 -0.05694 -0.38056 -0.05972 -0.37743 -0.06435 C -0.37222 -0.07222 -0.36754 -0.08079 -0.36215 -0.08843 C -0.32691 -0.13912 -0.27847 -0.18843 -0.23299 -0.22176 C -0.21997 -0.23125 -0.21094 -0.23657 -0.19688 -0.24213 C -0.19132 -0.24444 -0.18021 -0.24954 -0.18021 -0.24954 C -0.13819 -0.24769 -0.14254 -0.25671 -0.12049 -0.22731 C -0.11424 -0.20648 -0.1217 -0.22755 -0.11354 -0.2125 C -0.10885 -0.2037 -0.10677 -0.19144 -0.10521 -0.18102 C -0.11024 -0.13102 -0.1342 -0.09306 -0.1691 -0.07176 C -0.24531 -0.025 -0.31129 0.00139 -0.3941 0.01713 C -0.43316 0.01389 -0.43281 0.02477 -0.45104 0.00046 C -0.45451 -0.04074 -0.44358 -0.07384 -0.42882 -0.1088 C -0.39271 -0.19375 -0.34601 -0.27153 -0.27465 -0.30324 C -0.26267 -0.30139 -0.25017 -0.30255 -0.23854 -0.29769 C -0.22708 -0.29306 -0.20781 -0.26412 -0.20104 -0.25509 C -0.18021 -0.22731 -0.16649 -0.18588 -0.16076 -0.14769 C -0.1599 -0.11574 -0.1658 -0.07824 -0.13854 -0.0662 C -0.12969 -0.06736 -0.12083 -0.06759 -0.11215 -0.06991 C -0.10642 -0.07153 -0.10191 -0.07708 -0.09688 -0.08102 C -0.08229 -0.09213 -0.06493 -0.11065 -0.04826 -0.1162 C -0.04323 -0.12292 -0.03941 -0.1294 -0.03715 -0.13843 C -0.03212 -0.18565 -0.04531 -0.22708 -0.06632 -0.26435 C -0.06892 -0.27454 -0.07431 -0.27778 -0.0816 -0.28102 C -0.08698 -0.29167 -0.08681 -0.29028 -0.07882 -0.29954 C -0.07465 -0.3044 -0.07031 -0.30926 -0.06632 -0.31435 C -0.04462 -0.34167 -0.03229 -0.35486 -0.00243 -0.36065 C 0.00399 -0.35995 0.01076 -0.36088 0.01701 -0.3588 C 0.02066 -0.35764 0.02344 -0.3537 0.02674 -0.35139 C 0.04809 -0.33704 0.06701 -0.31991 0.08646 -0.30139 C 0.09271 -0.2956 0.09653 -0.28218 0.09896 -0.27361 C 0.10208 -0.26273 0.10729 -0.24028 0.10729 -0.24028 C 0.10972 -0.2037 0.11146 -0.18958 0.1059 -0.14213 C 0.10521 -0.13681 0.08038 -0.12569 0.07951 -0.12546 C 0.06007 -0.10926 0.03819 -0.10463 0.01562 -0.10139 C 0.00538 -0.10208 -0.00486 -0.10208 -0.01493 -0.10324 C -0.02622 -0.10463 -0.03733 -0.11065 -0.04826 -0.11435 C -0.05052 -0.1162 -0.05278 -0.11852 -0.05521 -0.11991 C -0.05694 -0.12083 -0.0592 -0.12014 -0.06076 -0.12176 C -0.06545 -0.12662 -0.07326 -0.13843 -0.07326 -0.13843 C -0.07483 -0.14861 -0.07778 -0.16042 -0.08438 -0.1662 C -0.09566 -0.16019 -0.09497 -0.15556 -0.09826 -0.14028 C -0.09774 -0.12616 -0.10052 -0.11111 -0.09688 -0.09769 C -0.09514 -0.0912 -0.07205 -0.08333 -0.0691 -0.08287 C -0.01493 -0.07384 0.03889 -0.07315 0.0934 -0.07176 C 0.1184 -0.06921 0.1434 -0.0662 0.1684 -0.0625 C 0.17899 -0.06088 0.20035 -0.0588 0.20035 -0.0588 C 0.21337 -0.02407 0.2434 -0.00509 0.26562 0.01713 C 0.27378 0.02546 0.28559 0.03796 0.29201 0.05046 C 0.29514 0.05648 0.30035 0.06898 0.30035 0.06898 C 0.30087 0.07153 0.30174 0.07384 0.30174 0.07639 C 0.30174 0.10579 0.29687 0.09745 0.2809 0.11157 C 0.26059 0.12963 0.24201 0.13472 0.2184 0.1375 C 0.1967 0.13565 0.17483 0.13565 0.15312 0.13194 C 0.13125 0.12824 0.11979 0.07986 0.11424 0.05787 C 0.11198 0.02292 0.10503 -0.03241 0.13368 -0.05139 C 0.13767 -0.05949 0.14184 -0.0588 0.14896 -0.06065 C 0.1566 -0.06019 0.17847 -0.06551 0.18646 -0.05139 C 0.1901 -0.04491 0.19115 -0.04375 0.1934 -0.03657 C 0.19444 -0.03287 0.19618 -0.02546 0.19618 -0.02546 C 0.19566 -0.0162 0.19635 -0.00671 0.19479 0.00231 C 0.19375 0.00833 0.18056 0.02199 0.17812 0.02454 C 0.15382 0.05 0.13663 0.05301 0.10868 0.06343 C 0.0849 0.07222 0.11076 0.06713 0.08507 0.07083 C 0.06476 0.06829 0.0441 0.06782 0.02396 0.06343 C -0.00434 0.05718 -0.02344 0.01065 -0.0316 -0.02176 C -0.03455 -0.05764 -0.03368 -0.03889 -0.03021 -0.10139 C -0.02882 -0.12523 -0.02396 -0.12639 -0.01215 -0.14028 C 0.01354 -0.17037 0.0474 -0.1706 0.07674 -0.19028 C 0.10729 -0.2412 0.05677 -0.27778 0.02535 -0.28472 C 0.01337 -0.28727 0.00121 -0.28727 -0.01076 -0.28843 C -0.04774 -0.28727 -0.0849 -0.28681 -0.12188 -0.28472 C -0.13594 -0.28403 -0.14844 -0.27917 -0.16215 -0.27546 C -0.17188 -0.27292 -0.19132 -0.26806 -0.19132 -0.26806 C -0.21615 -0.25347 -0.20556 -0.25694 -0.22188 -0.25324 C -0.22622 -0.24745 -0.23073 -0.24468 -0.23576 -0.24028 C -0.23438 -0.23773 -0.23333 -0.23495 -0.2316 -0.23287 C -0.23056 -0.23171 -0.22795 -0.23287 -0.22743 -0.23102 C -0.22674 -0.2287 -0.22795 -0.22593 -0.22882 -0.22361 C -0.23125 -0.21713 -0.23715 -0.20509 -0.23715 -0.20509 C -0.23889 -0.17106 -0.24045 -0.15347 -0.23715 -0.11435 C -0.23594 -0.10069 -0.23021 -0.08866 -0.22743 -0.07546 C -0.22205 -0.04954 -0.21771 -0.02778 -0.20521 -0.00694 C -0.20365 -0.00046 -0.19427 0.00926 -0.18854 0.00972 C -0.16545 0.01134 -0.14219 0.01088 -0.1191 0.01157 C -0.10556 0.01759 -0.11129 0.00301 -0.11215 -0.01435 C -0.11129 -0.03403 -0.11163 -0.05417 -0.10938 -0.07361 C -0.10833 -0.08218 -0.10399 -0.08935 -0.10243 -0.09769 C -0.10087 -0.10625 -0.10104 -0.10949 -0.09549 -0.11435 C -0.08351 -0.11296 -0.07465 -0.10995 -0.06354 -0.10509 C -0.05035 -0.0919 -0.0434 -0.08426 -0.03438 -0.0662 C -0.03056 -0.0588 -0.02813 -0.05069 -0.02604 -0.04213 C -0.02552 -0.04028 -0.02465 -0.03657 -0.02465 -0.03657 C -0.0316 -0.03356 -0.03472 -0.02315 -0.03993 -0.0162 C -0.04306 0.000230000000000001 -0.04705 0.02685 -0.0316 0.0338 C -0.02257 0.04282 -0.02795 0.03773 -0.01493 0.04861 C -0.01198 0.05116 -0.00816 0.05162 -0.00521 0.05417 C 0.00712 0.06435 0.01528 0.06991 0.02951 0.07454 C 0.04358 0.07245 0.0592 0.07037 0.07118 0.05972 C 0.075 0.04954 0.07535 0.05069 0.07535 0.03565 C 0.07535 0.02454 0.075 0.01343 0.07396 0.00231 C 0.0717 -0.01944 0.05139 -0.02801 0.0434 -0.04398 C 0.03455 -0.06181 0.02517 -0.08009 0.01424 -0.09583 C 0.01024 -0.10162 0.00642 -0.10764 0.00174 -0.1125 C -0.00243 -0.1169 -0.00712 -0.1206 -0.01076 -0.12546 C -0.01267 -0.12801 -0.01406 -0.13102 -0.01632 -0.13287 C -0.02361 -0.13866 -0.03351 -0.14074 -0.04132 -0.14583 C -0.04635 -0.14514 -0.05243 -0.14792 -0.0566 -0.14398 C -0.05677 -0.14375 -0.05521 -0.12986 -0.05382 -0.12731 C -0.04688 -0.11435 -0.03715 -0.10625 -0.02743 -0.09769 C -0.02274 -0.09352 -0.02101 -0.08704 -0.01632 -0.08287 C -0.01285 -0.07593 -0.00972 -0.06806 -0.0191 -0.06806 L -0.01215 -0.07361 E">
                                      <p:cBhvr>
                                        <p:cTn id="101" dur="2000" fill="hold"/>
                                        <p:tgtEl>
                                          <p:spTgt spid="1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7 0.00717 C -0.00763 0.00903 -0.01614 0.01504 -0.0243 0.01643 C -0.03211 0.01782 -0.0401 0.01759 -0.04791 0.01829 C -0.0835 0.0169 -0.09236 0.01736 -0.12013 0.00903 C -0.13142 0.00139 -0.15538 -0.00486 -0.16319 -0.0206 C -0.16597 -0.02616 -0.16736 -0.03171 -0.17013 -0.03727 C -0.17187 -0.04607 -0.17378 -0.05347 -0.17013 -0.0632 C -0.16909 -0.06621 -0.16545 -0.06551 -0.16319 -0.0669 C -0.15034 -0.07546 -0.17378 -0.06898 -0.14097 -0.07246 C -0.09704 -0.0919 -0.04895 -0.08565 -0.00347 -0.08727 C 0.00313 -0.10509 -0.01041 -0.11713 -0.02013 -0.12616 C -0.03871 -0.14352 -0.02586 -0.13264 -0.04652 -0.14283 C -0.05468 -0.14676 -0.06197 -0.15371 -0.07013 -0.15764 C -0.08298 -0.16366 -0.09704 -0.16574 -0.11041 -0.16875 C -0.13211 -0.16667 -0.13593 -0.16875 -0.14236 -0.14283 C -0.14444 -0.11736 -0.14843 -0.08542 -0.1368 -0.0632 C -0.13229 -0.05463 -0.12656 -0.04722 -0.12152 -0.03912 C -0.11875 -0.03472 -0.11718 -0.02894 -0.11458 -0.02431 C -0.11024 -0.01667 -0.10069 -0.00208 -0.10069 -0.00208 C -0.09843 0.01296 -0.096 0.01991 -0.10069 0.0368 C -0.10902 0.06713 -0.14843 0.08148 -0.17013 0.08866 C -0.1835 0.08796 -0.19704 0.08866 -0.21041 0.0868 C -0.2276 0.08426 -0.23697 0.05995 -0.24652 0.04421 C -0.24913 0.03241 -0.25312 0.02245 -0.25625 0.01088 C -0.25937 -0.00046 -0.26093 -0.0125 -0.26319 -0.02431 C -0.26267 -0.03611 -0.26302 -0.04792 -0.2618 -0.05949 C -0.25711 -0.10324 -0.22187 -0.13403 -0.19236 -0.14283 C -0.17708 -0.15301 -0.16059 -0.15579 -0.14375 -0.15949 C -0.10781 -0.15718 -0.12343 -0.15833 -0.0993 -0.15023 C -0.09444 -0.14491 -0.08871 -0.14097 -0.08402 -0.13542 C -0.07638 -0.12616 -0.07048 -0.11366 -0.06319 -0.10394 C -0.06111 -0.0956 -0.05677 -0.08912 -0.05347 -0.08171 C -0.05 -0.05463 -0.04965 -0.05579 -0.05486 -0.01134 C -0.05538 -0.00671 -0.06475 0.00995 -0.06736 0.01458 C -0.07656 0.03171 -0.08715 0.05162 -0.10347 0.05717 C -0.11041 0.05602 -0.1177 0.05625 -0.1243 0.05347 C -0.13871 0.04745 -0.15 0.02222 -0.15763 0.00717 C -0.16423 -0.03218 -0.16232 -0.01482 -0.16458 -0.04468 C -0.16371 -0.06065 -0.16371 -0.07685 -0.1618 -0.09283 C -0.15763 -0.12662 -0.13993 -0.16713 -0.12569 -0.19468 C -0.11788 -0.20996 -0.11354 -0.22755 -0.10347 -0.24097 C -0.10138 -0.24908 -0.10034 -0.25671 -0.0993 -0.26505 C -0.10017 -0.27546 -0.10052 -0.28611 -0.10208 -0.29653 C -0.10347 -0.30625 -0.12187 -0.30996 -0.12847 -0.31134 C -0.14322 -0.31065 -0.15816 -0.31158 -0.17291 -0.30949 C -0.17604 -0.30903 -0.17829 -0.30556 -0.18125 -0.30394 C -0.1875 -0.30046 -0.19496 -0.29769 -0.20069 -0.29283 C -0.22586 -0.27176 -0.20694 -0.28287 -0.22291 -0.27431 C -0.22378 -0.27176 -0.2276 -0.26806 -0.22569 -0.2669 C -0.22309 -0.26505 -0.22013 -0.26945 -0.21736 -0.2706 C -0.20868 -0.27384 -0.19965 -0.27454 -0.19097 -0.27801 C -0.17881 -0.28287 -0.16701 -0.28982 -0.15486 -0.29468 C -0.14704 -0.29769 -0.13923 -0.30093 -0.13125 -0.30394 C -0.08836 -0.31991 -0.12135 -0.30741 -0.07569 -0.3206 C -0.04184 -0.33033 -0.00746 -0.34421 0.02709 -0.34838 C 0.06129 -0.34676 0.06129 -0.35139 0.08264 -0.33727 C 0.09462 -0.31597 0.0882 -0.30394 0.07987 -0.28171 C 0.06441 -0.24051 0.04514 -0.2088 0.02292 -0.17431 C 0.01789 -0.16644 0.01459 -0.15764 0.00903 -0.15023 C 0.00191 -0.12153 0.03941 -0.14167 0.05209 -0.14283 C 0.05573 -0.14537 0.05921 -0.14838 0.0632 -0.15023 C 0.07275 -0.15463 0.08316 -0.15602 0.09237 -0.16134 C 0.11858 -0.17662 0.15313 -0.19607 0.16875 -0.23171 C 0.17379 -0.24306 0.17622 -0.25486 0.17987 -0.2669 C 0.17761 -0.29398 0.17796 -0.32176 0.17292 -0.34838 C 0.17119 -0.35741 0.16528 -0.36389 0.16042 -0.3706 C 0.1382 -0.40185 0.10087 -0.41019 0.07014 -0.4132 C 0.05382 -0.41921 0.0382 -0.41991 0.02153 -0.42246 C 0.01268 -0.42176 0.00382 -0.42292 -0.00486 -0.4206 C -0.01024 -0.41921 -0.021 -0.40625 -0.0243 -0.40208 C -0.03541 -0.3882 -0.04375 -0.37431 -0.05208 -0.35764 C -0.05121 -0.34769 -0.05104 -0.33773 -0.0493 -0.32801 C -0.04618 -0.31158 -0.00868 -0.3007 0.0007 -0.30023 C 0.03125 -0.29861 0.06181 -0.29908 0.09237 -0.29838 C 0.12709 -0.29236 0.11372 -0.29514 0.13264 -0.29097 C 0.13681 -0.28843 0.14115 -0.28658 0.14514 -0.28357 C 0.15226 -0.27847 0.16598 -0.2669 0.16598 -0.2669 C 0.17292 -0.2544 0.18212 -0.2463 0.18681 -0.23171 C 0.19046 -0.22014 0.19653 -0.19653 0.19653 -0.19653 C 0.1974 -0.18658 0.19914 -0.17685 0.19931 -0.1669 C 0.19966 -0.12917 0.19723 -0.09167 0.19792 -0.05394 C 0.19844 -0.02523 0.21146 -0.01968 0.22987 -0.01505 C 0.25018 -0.00996 0.27049 -0.00741 0.29098 -0.00394 C 0.30712 0.00254 0.32292 0.00764 0.33959 0.01088 C 0.35087 0.01597 0.3625 0.01967 0.37431 0.02199 C 0.37744 0.02338 0.38282 0.02153 0.38403 0.02569 C 0.3849 0.0287 0.37848 0.03773 0.37709 0.03866 C 0.3658 0.04745 0.35382 0.0544 0.34237 0.06273 C 0.29757 0.0956 0.25278 0.13657 0.20348 0.15717 C 0.18629 0.16435 0.1507 0.17384 0.1507 0.17384 C 0.08125 0.17199 0.10313 0.17754 0.07014 0.16643 C 0.0566 0.14838 0.06198 0.12569 0.06737 0.09977 C 0.07396 0.06829 0.09671 0.0162 0.10903 -0.0169 C 0.11303 -0.02755 0.11737 -0.03796 0.12153 -0.04838 C 0.12448 -0.05602 0.13125 -0.0706 0.13125 -0.0706 C 0.13195 -0.07801 0.13421 -0.09283 0.13125 -0.10023 C 0.12969 -0.10417 0.12327 -0.10602 0.12014 -0.10764 C 0.10695 -0.11435 0.09393 -0.11713 0.07987 -0.11875 C 0.05903 -0.11806 0.03803 -0.11945 0.01737 -0.1169 C 0.00365 -0.11528 -0.00954 -0.10949 -0.02291 -0.10579 C -0.02916 -0.10417 -0.03506 -0.10139 -0.04097 -0.09838 C -0.07621 -0.08056 -0.13038 -0.0544 -0.14097 0.00162 C -0.1401 0.01643 -0.14027 0.03148 -0.13819 0.04606 C -0.13333 0.0794 -0.09774 0.08773 -0.07847 0.09421 C -0.03663 0.0912 0.000350000000000003 0.09444 0.03959 0.07569 C 0.0823 0.05532 0.12379 0.03102 0.16598 0.00903 C 0.18681 -0.00185 0.20678 -0.01898 0.22848 -0.02616 C 0.18716 0.01065 0.14167 0.03819 0.09514 0.06088 C 0.04879 0.08356 0.00157 0.10278 -0.04791 0.10717 C -0.06527 0.11111 -0.0684 0.1125 -0.09375 0.10717 C -0.0993 0.10602 -0.10277 0.09815 -0.10763 0.09421 C -0.11336 0.0787 -0.10659 0.09491 -0.11597 0.0794 C -0.11805 0.07592 -0.12152 0.06829 -0.12152 0.06829 C -0.12829 0.01389 -0.1302 0.03194 -0.12569 -0.06134 C -0.12482 -0.07778 -0.11111 -0.09815 -0.10347 -0.10949 C -0.07482 -0.15232 -0.04201 -0.16806 -0.00069 -0.17801 C 0.0224 -0.17685 0.04566 -0.17662 0.06875 -0.17431 C 0.07622 -0.17361 0.08351 -0.17037 0.09098 -0.16875 C 0.15782 -0.15324 0.22362 -0.12431 0.27987 -0.07431 C 0.27639 -0.0625 0.27813 -0.06435 0.26875 -0.05579 C 0.24306 -0.03218 0.19948 0.00486 0.17292 0.01829 C 0.07987 0.06551 -0.01597 0.11366 -0.11597 0.12569 C -0.13177 0.125 -0.14739 0.125 -0.16319 0.12384 C -0.16788 0.12361 -0.1743 0.12014 -0.17847 0.11805 C -0.17986 0.11759 -0.18263 0.11643 -0.18263 0.11643 C -0.19097 0.10532 -0.19045 0.09398 -0.19236 0.0794 C -0.19461 0.06134 -0.19878 0.04398 -0.20069 0.02569 C -0.19843 0.01389 -0.19756 0.00162 -0.19375 -0.00949 C -0.18281 -0.04074 -0.17968 -0.01227 -0.18541 -0.03912 C -0.18715 -0.0625 -0.18836 -0.08634 -0.19097 -0.10949 C -0.19427 -0.13866 -0.19982 -0.16713 -0.20208 -0.19653 C -0.19982 -0.21435 -0.1967 -0.21621 -0.18541 -0.22616 C -0.1776 -0.24167 -0.15816 -0.24537 -0.14513 -0.25023 C -0.13125 -0.24954 -0.11736 -0.25046 -0.10347 -0.24838 C -0.09722 -0.24746 -0.0835 -0.23287 -0.07847 -0.22801 C -0.05329 -0.20371 -0.02552 -0.17894 -0.01041 -0.14097 C 0.000699999999999999 -0.1132 0.00313 -0.0831 0.01042 -0.05394 C 0.01268 -0.05509 0.01494 -0.05671 0.01737 -0.05764 C 0.01962 -0.05857 0.02205 -0.05857 0.02431 -0.05949 C 0.03195 -0.06296 0.0382 -0.06852 0.04653 -0.0706 C 0.05296 -0.07222 0.06598 -0.07431 0.06598 -0.07431 C 0.07396 -0.07778 0.08021 -0.0794 0.08681 -0.08542 C 0.09445 -0.1007 0.08525 -0.1294 0.07431 -0.13912 C 0.07084 -0.14213 0.06737 -0.14537 0.0632 -0.14653 C 0.05764 -0.14792 0.04653 -0.15023 0.04653 -0.15023 C 0.03594 -0.14908 0.02518 -0.14861 0.01459 -0.14653 C 0.00712 -0.14514 -0.00486 -0.13171 -0.00486 -0.13171 C -0.0059 -0.12778 -0.00885 -0.12477 -0.00902 -0.1206 C -0.01024 -0.0882 -0.0059 -0.06806 0.01181 -0.04838 C 0.01771 -0.04167 0.02518 -0.03125 0.03264 -0.02801 C 0.03837 -0.01667 0.03247 -0.02338 0.02848 -0.02616 L 0.03542 -0.03727 E">
                                      <p:cBhvr>
                                        <p:cTn id="103" dur="2000" fill="hold"/>
                                        <p:tgtEl>
                                          <p:spTgt spid="1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2.96296E-006 C -0.0158 0.00417 -0.0184 0.00324 -0.03889 0.00185 C -0.04462 -0.00208 -0.05122 -0.00347 -0.05695 -0.00741 C -0.07813 -0.02222 -0.09861 -0.04398 -0.11389 -0.06852 C -0.11701 -0.07361 -0.11927 -0.07986 -0.12222 -0.08519 C -0.12656 -0.09283 -0.13611 -0.10741 -0.13611 -0.10741 C -0.13767 -0.1125 -0.14028 -0.11713 -0.14167 -0.12222 C -0.14306 -0.12708 -0.14445 -0.13704 -0.14445 -0.13704 C -0.1441 -0.13866 -0.14288 -0.15579 -0.13889 -0.15926 C -0.13524 -0.1625 -0.13073 -0.16435 -0.12639 -0.16482 C -0.09826 -0.16759 -0.06997 -0.16852 -0.04167 -0.17037 C -0.0316 -0.20625 -0.03663 -0.18195 -0.04167 -0.25371 C -0.0441 -0.28912 -0.05 -0.32153 -0.05695 -0.35556 C -0.06024 -0.37199 -0.06302 -0.38588 -0.07222 -0.39815 C -0.07986 -0.39468 -0.07465 -0.39861 -0.08056 -0.38519 C -0.08646 -0.37199 -0.09375 -0.36019 -0.09861 -0.3463 C -0.11962 -0.28658 -0.12743 -0.22153 -0.14306 -0.15926 C -0.14427 -0.12477 -0.14063 -0.09329 -0.17083 -0.08519 C -0.19861 -0.08773 -0.1875 -0.08148 -0.2 -0.10371 C -0.21007 -0.15093 -0.19531 -0.21412 -0.17917 -0.25741 C -0.17743 -0.26875 -0.17379 -0.28148 -0.16528 -0.28519 C -0.13698 -0.2757 -0.11285 -0.24746 -0.09028 -0.22408 C -0.07865 -0.21204 -0.06597 -0.20278 -0.05556 -0.18889 C -0.02413 -0.21667 1.11111000000025E-006 -0.2463 0.02639 -0.28333 C 0.0441 -0.3081 0.06562 -0.32732 0.08472 -0.35 C 0.09809 -0.36597 0.11163 -0.38241 0.12361 -0.4 C 0.13351 -0.41458 0.12378 -0.40972 0.13611 -0.41296 C 0.14965 -0.40394 0.16424 -0.39792 0.17778 -0.38889 C 0.22222 -0.35926 0.15799 -0.39491 0.20417 -0.37037 C 0.21371 -0.35972 0.22448 -0.35347 0.23472 -0.34445 C 0.24236 -0.31389 0.23524 -0.30046 0.22361 -0.27593 C 0.21632 -0.26065 0.21805 -0.26158 0.20833 -0.25 C 0.19132 -0.22986 0.19826 -0.23333 0.18472 -0.22963 C 0.17517 -0.22315 0.17483 -0.22408 0.1625 -0.22593 C 0.14705 -0.23958 0.16007 -0.29144 0.16111 -0.3 C 0.16441 -0.32755 0.17552 -0.35417 0.18333 -0.37963 C 0.19583 -0.4206 0.21024 -0.46065 0.225 -0.5 C 0.22448 -0.5044 0.22535 -0.50926 0.22361 -0.51296 C 0.21979 -0.52083 0.21285 -0.52083 0.20694 -0.52222 C 0.19722 -0.52107 0.18733 -0.52176 0.17778 -0.51852 C 0.15694 -0.51158 0.13976 -0.48125 0.11944 -0.47222 C 0.08229 -0.43403 0.04531 -0.40232 0.00417 -0.37222 C -0.00365 -0.36644 -0.01059 -0.35857 -0.01806 -0.35185 C -0.02188 -0.34838 -0.02552 -0.34445 -0.02917 -0.34074 C -0.03108 -0.33889 -0.03472 -0.33519 -0.03472 -0.33519 C -0.03611 -0.33218 -0.03715 -0.32871 -0.03889 -0.32593 C -0.04184 -0.3213 -0.04861 -0.31296 -0.04861 -0.31296 C -0.05972 -0.26875 -0.05104 -0.36852 -0.04861 -0.38148 C -0.04115 -0.42246 -0.02795 -0.46343 -0.0125 -0.5 C -0.0099 -0.50625 -0.00677 -0.51227 -0.00417 -0.51852 C -0.0007 -0.52708 -0.00017 -0.53866 0.00555 -0.54445 C 0.01267 -0.55162 0.00955 -0.54792 0.01528 -0.55556 C 0.01892 -0.55486 0.02326 -0.55625 0.02639 -0.55371 C 0.03246 -0.54861 0.03628 -0.53958 0.04167 -0.53333 C 0.04496 -0.52963 0.04844 -0.52616 0.05139 -0.52222 C 0.05573 -0.51644 0.06528 -0.50556 0.06528 -0.50556 C 0.07205 -0.47824 0.06771 -0.45 0.05972 -0.42408 C 0.04792 -0.38588 0.03403 -0.33681 0.01528 -0.30185 C 0.01215 -0.28958 0.00642 -0.26736 1.11111E-006 -0.25741 C -0.00504 -0.24954 -0.01076 -0.24583 -0.01389 -0.23519 C -0.01858 -0.21945 -0.02344 -0.20394 -0.02917 -0.18889 C -0.03212 -0.15371 -0.04219 -0.09931 -0.00972 -0.09074 C -0.00052 -0.09144 0.00903 -0.09028 0.01805 -0.09259 C 0.02135 -0.09352 0.02326 -0.09838 0.02639 -0.1 C 0.02899 -0.10139 0.03194 -0.10093 0.03472 -0.10185 C 0.05469 -0.10926 0.07118 -0.11852 0.09167 -0.12408 C 0.11354 -0.12222 0.12951 -0.11343 0.15139 -0.10741 C 0.17726 -0.10023 0.20417 -0.1044 0.23055 -0.10371 C 0.24132 -0.10093 0.25087 -0.09537 0.26111 -0.09074 C 0.27309 -0.09468 0.26805 -0.09051 0.26528 -0.12037 C 0.26319 -0.1419 0.25712 -0.16713 0.25139 -0.18704 C 0.23576 -0.24167 0.225 -0.28843 0.18472 -0.31667 C 0.17951 -0.32037 0.16458 -0.32593 0.15972 -0.32778 C 0.14531 -0.32454 0.12986 -0.325 0.11667 -0.31667 C 0.07639 -0.29097 0.04722 -0.23519 0.03472 -0.17963 C 0.0401 -0.14352 0.03455 -0.12685 0.0625 -0.11296 C 0.08055 -0.10394 0.06962 -0.1081 0.09583 -0.10371 C 0.09948 -0.10301 0.10694 -0.10185 0.10694 -0.10185 C 0.11805 -0.0794 0.0967 -0.08796 0.08889 -0.08889 C 0.07587 -0.09051 0.06302 -0.09421 0.05 -0.0963 C 0.03229 -0.10417 0.01493 -0.11065 -0.00278 -0.11852 C -0.03247 -0.11296 -0.06146 -0.10301 -0.09167 -0.10185 C -0.13108 -0.10046 -0.17031 -0.1007 -0.20972 -0.1 C -0.22847 -0.09861 -0.24688 -0.09792 -0.26528 -0.09259 C -0.28316 -0.08727 -0.26771 -0.09097 -0.28195 -0.08519 C -0.28559 -0.0838 -0.29306 -0.08148 -0.29306 -0.08148 C -0.28472 -0.07778 -0.28733 -0.08634 -0.28472 -0.09445 C -0.28281 -0.10023 -0.27986 -0.10533 -0.27778 -0.11111 C -0.27517 -0.11829 -0.27309 -0.12593 -0.27083 -0.13333 C -0.24931 -0.20741 -0.22795 -0.27894 -0.20139 -0.35 C -0.1908 -0.37824 -0.18351 -0.41181 -0.16945 -0.43704 C -0.16892 -0.43889 -0.16945 -0.44306 -0.16806 -0.44259 C -0.16233 -0.44074 -0.1632 -0.42384 -0.1625 -0.41482 C -0.17274 -0.30324 -0.18386 -0.19838 -0.22222 -0.0963 C -0.22951 -0.07685 -0.23629 -0.04121 -0.25417 -0.03519 C -0.26406 -0.02523 -0.26892 -0.02801 -0.28195 -0.02963 C -0.27691 -0.0632 -0.27292 -0.07824 -0.25833 -0.10556 C -0.25469 -0.11227 -0.25226 -0.11898 -0.24583 -0.12222 C -0.23108 -0.1294 -0.21406 -0.13357 -0.19861 -0.13519 C -0.08542 -0.13264 -0.14323 -0.14676 -0.10417 -0.12593 C -0.0934 -0.10695 -0.09063 -0.08982 -0.08889 -0.06667 C -0.08976 -0.04421 -0.08611 -0.02963 -0.09722 -0.01482 C -0.10191 -0.01597 -0.10677 -0.01597 -0.11111 -0.01852 C -0.11719 -0.02199 -0.12639 -0.03889 -0.12917 -0.04445 C -0.14288 -0.07199 -0.14774 -0.10116 -0.15139 -0.13333 C -0.15052 -0.16783 -0.15 -0.20255 -0.14861 -0.23704 C -0.14826 -0.24699 -0.14757 -0.25695 -0.14583 -0.26667 C -0.13993 -0.29769 -0.13073 -0.33218 -0.11806 -0.35926 C -0.11389 -0.36806 -0.11372 -0.37315 -0.10556 -0.37593 C -0.09045 -0.37083 -0.08906 -0.3331 -0.08333 -0.31482 C -0.08056 -0.30602 -0.07639 -0.29769 -0.07361 -0.28889 C -0.06945 -0.27616 -0.06615 -0.26296 -0.0625 -0.25 C -0.05747 -0.23241 -0.05504 -0.2132 -0.04861 -0.1963 C -0.04792 -0.19074 -0.04514 -0.175 -0.04861 -0.17037 C -0.05208 -0.16574 -0.05799 -0.1669 -0.0625 -0.16482 C -0.07153 -0.16065 -0.07951 -0.15625 -0.08889 -0.15371 C -0.09497 -0.1544 -0.10122 -0.15324 -0.10695 -0.15556 C -0.1092 -0.15648 -0.1099 -0.16042 -0.11111 -0.16296 C -0.11545 -0.17176 -0.11754 -0.18056 -0.11945 -0.19074 C -0.11892 -0.2044 -0.11927 -0.21806 -0.11806 -0.23148 C -0.11615 -0.25162 -0.10677 -0.26806 -0.1 -0.28519 C -0.09097 -0.3081 -0.08021 -0.32732 -0.06528 -0.34445 C -0.05382 -0.35764 -0.04011 -0.36065 -0.02639 -0.36667 C -0.01754 -0.36597 -0.00886 -0.36574 1.11111E-006 -0.36482 C 0.00191 -0.36458 0.00364 -0.3625 0.00555 -0.36296 C 0.02031 -0.36621 0.03871 -0.38241 0.05278 -0.38889 C 0.06736 -0.3956 0.07639 -0.39491 0.09167 -0.3963 C 0.11805 -0.39167 0.13889 -0.3963 0.15972 -0.37778 C 0.16319 -0.37477 0.1776 -0.35648 0.18055 -0.35185 C 0.1842 -0.34607 0.18698 -0.33958 0.19028 -0.33333 C 0.19114 -0.33148 0.19305 -0.32778 0.19305 -0.32778 C 0.17049 -0.30278 0.14809 -0.26528 0.13194 -0.23333 C 0.09948 -0.16921 0.06389 -0.09653 0.0375 -0.02593 C 0.03437 -0.04283 0.04739 -0.0632 0.05278 -0.07593 C 0.07292 -0.12384 0.10052 -0.16574 0.14028 -0.18333 C 0.13837 -0.17315 0.13871 -0.17246 0.13333 -0.16111 C 0.12569 -0.14491 0.11528 -0.13148 0.10833 -0.11482 C 0.10312 -0.10232 0.09913 -0.08935 0.09305 -0.07778 C 0.08854 -0.06921 0.08767 -0.0625 0.08055 -0.05926 C 0.07101 -0.04005 0.08628 -0.06875 0.07222 -0.05 C 0.07118 -0.04861 0.07187 -0.04583 0.07083 -0.04445 C 0.06979 -0.04306 0.06788 -0.04352 0.06667 -0.04259 C 0.05799 -0.03611 0.05642 -0.03218 0.04722 -0.02963 C 0.03871 -0.02408 0.02864 -0.02153 0.01944 -0.01852 C 0.01233 -0.01204 0.00278 -0.00718 -0.00278 0.00185 C -0.00538 0.00602 -0.00556 0.01111 -0.00833 0.01481 E">
                                      <p:cBhvr>
                                        <p:cTn id="105" dur="2000" fill="hold"/>
                                        <p:tgtEl>
                                          <p:spTgt spid="1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40000"/>
                </a:solidFill>
                <a:latin typeface="Arial"/>
              </a:rPr>
              <a:t>Size of Businesses </a:t>
            </a: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pic>
        <p:nvPicPr>
          <p:cNvPr id="175" name="Content Placeholder 3" descr=""/>
          <p:cNvPicPr/>
          <p:nvPr/>
        </p:nvPicPr>
        <p:blipFill>
          <a:blip r:embed="rId1"/>
          <a:stretch/>
        </p:blipFill>
        <p:spPr>
          <a:xfrm>
            <a:off x="-50760" y="1917720"/>
            <a:ext cx="9091440" cy="4525920"/>
          </a:xfrm>
          <a:prstGeom prst="rect">
            <a:avLst/>
          </a:prstGeom>
          <a:ln w="0">
            <a:noFill/>
          </a:ln>
        </p:spPr>
      </p:pic>
      <p:sp>
        <p:nvSpPr>
          <p:cNvPr id="176" name="TextBox 3"/>
          <p:cNvSpPr/>
          <p:nvPr/>
        </p:nvSpPr>
        <p:spPr>
          <a:xfrm>
            <a:off x="3073320" y="184320"/>
            <a:ext cx="4673520" cy="3697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40000"/>
                </a:solidFill>
                <a:latin typeface="Arial"/>
              </a:rPr>
              <a:t>Types of Businesses</a:t>
            </a: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20400" y="2158920"/>
            <a:ext cx="8669160" cy="396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1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duc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media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rvice busines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Box 3"/>
          <p:cNvSpPr/>
          <p:nvPr/>
        </p:nvSpPr>
        <p:spPr>
          <a:xfrm>
            <a:off x="711360" y="668160"/>
            <a:ext cx="787320" cy="3988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b05"/>
                </a:solidFill>
                <a:latin typeface="Arial"/>
              </a:rPr>
              <a:t>5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Box 4"/>
          <p:cNvSpPr/>
          <p:nvPr/>
        </p:nvSpPr>
        <p:spPr>
          <a:xfrm>
            <a:off x="3073320" y="184320"/>
            <a:ext cx="4673520" cy="3697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40000"/>
                </a:solidFill>
                <a:latin typeface="Arial"/>
              </a:rPr>
              <a:t>Types of Businesses</a:t>
            </a: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20400" y="2158920"/>
            <a:ext cx="8669160" cy="396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1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ducers- create the products and services used by individuals and other busin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Box 3"/>
          <p:cNvSpPr/>
          <p:nvPr/>
        </p:nvSpPr>
        <p:spPr>
          <a:xfrm>
            <a:off x="711360" y="668160"/>
            <a:ext cx="787320" cy="3988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b05"/>
                </a:solidFill>
                <a:latin typeface="Arial"/>
              </a:rPr>
              <a:t>5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4"/>
          <p:cNvSpPr/>
          <p:nvPr/>
        </p:nvSpPr>
        <p:spPr>
          <a:xfrm>
            <a:off x="3073320" y="184320"/>
            <a:ext cx="4673520" cy="3697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3408f"/>
                </a:solidFill>
                <a:latin typeface="Arial"/>
              </a:rPr>
              <a:t>Intermediaries</a:t>
            </a: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33360" y="1866960"/>
            <a:ext cx="4422960" cy="396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The most common types of intermediaries ar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retailer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wholesaler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5" descr="key terms box"/>
          <p:cNvPicPr/>
          <p:nvPr/>
        </p:nvPicPr>
        <p:blipFill>
          <a:blip r:embed="rId1"/>
          <a:stretch/>
        </p:blipFill>
        <p:spPr>
          <a:xfrm>
            <a:off x="4627440" y="1913040"/>
            <a:ext cx="4383360" cy="418788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6"/>
          <p:cNvSpPr/>
          <p:nvPr/>
        </p:nvSpPr>
        <p:spPr>
          <a:xfrm>
            <a:off x="4932360" y="2693880"/>
            <a:ext cx="3733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3d"/>
                </a:solidFill>
                <a:latin typeface="Arial"/>
              </a:rPr>
              <a:t>Intermedi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sinesses involved in selling the goods and services of producers to consumers and other busin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Box 5"/>
          <p:cNvSpPr/>
          <p:nvPr/>
        </p:nvSpPr>
        <p:spPr>
          <a:xfrm>
            <a:off x="711360" y="668160"/>
            <a:ext cx="787320" cy="3988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b05"/>
                </a:solidFill>
                <a:latin typeface="Arial"/>
              </a:rPr>
              <a:t>5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6"/>
          <p:cNvSpPr/>
          <p:nvPr/>
        </p:nvSpPr>
        <p:spPr>
          <a:xfrm>
            <a:off x="3073320" y="184320"/>
            <a:ext cx="4673520" cy="3697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191" name="Straight Arrow Connector 7"/>
          <p:cNvCxnSpPr/>
          <p:nvPr/>
        </p:nvCxnSpPr>
        <p:spPr>
          <a:xfrm>
            <a:off x="2145960" y="4622400"/>
            <a:ext cx="788040" cy="2041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pic>
        <p:nvPicPr>
          <p:cNvPr id="192" name="Picture 2" descr=""/>
          <p:cNvPicPr/>
          <p:nvPr/>
        </p:nvPicPr>
        <p:blipFill>
          <a:blip r:embed="rId1"/>
          <a:stretch/>
        </p:blipFill>
        <p:spPr>
          <a:xfrm>
            <a:off x="5540400" y="5551560"/>
            <a:ext cx="957240" cy="390600"/>
          </a:xfrm>
          <a:prstGeom prst="rect">
            <a:avLst/>
          </a:prstGeom>
          <a:ln w="0">
            <a:noFill/>
          </a:ln>
        </p:spPr>
      </p:pic>
      <p:grpSp>
        <p:nvGrpSpPr>
          <p:cNvPr id="193" name="Group 12"/>
          <p:cNvGrpSpPr/>
          <p:nvPr/>
        </p:nvGrpSpPr>
        <p:grpSpPr>
          <a:xfrm>
            <a:off x="88920" y="2013120"/>
            <a:ext cx="2895480" cy="2590560"/>
            <a:chOff x="88920" y="2013120"/>
            <a:chExt cx="2895480" cy="2590560"/>
          </a:xfrm>
        </p:grpSpPr>
        <p:sp>
          <p:nvSpPr>
            <p:cNvPr id="194" name="Oval 3"/>
            <p:cNvSpPr/>
            <p:nvPr/>
          </p:nvSpPr>
          <p:spPr>
            <a:xfrm>
              <a:off x="88920" y="2013120"/>
              <a:ext cx="2895480" cy="259056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TextBox 10"/>
            <p:cNvSpPr/>
            <p:nvPr/>
          </p:nvSpPr>
          <p:spPr>
            <a:xfrm>
              <a:off x="761760" y="2166120"/>
              <a:ext cx="1828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oleman Tents (Producer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6" name="Picture 4" descr="http://cdn-www.trails.com/imagecache/articles/295x195/fossil-creek-coleman-tent-review-295x195.png"/>
            <p:cNvPicPr/>
            <p:nvPr/>
          </p:nvPicPr>
          <p:blipFill>
            <a:blip r:embed="rId2"/>
            <a:stretch/>
          </p:blipFill>
          <p:spPr>
            <a:xfrm>
              <a:off x="174600" y="2635920"/>
              <a:ext cx="2809800" cy="1857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7" name="Group 13"/>
          <p:cNvGrpSpPr/>
          <p:nvPr/>
        </p:nvGrpSpPr>
        <p:grpSpPr>
          <a:xfrm>
            <a:off x="2984400" y="3206880"/>
            <a:ext cx="3035520" cy="2539800"/>
            <a:chOff x="2984400" y="3206880"/>
            <a:chExt cx="3035520" cy="2539800"/>
          </a:xfrm>
        </p:grpSpPr>
        <p:sp>
          <p:nvSpPr>
            <p:cNvPr id="198" name="Oval 4"/>
            <p:cNvSpPr/>
            <p:nvPr/>
          </p:nvSpPr>
          <p:spPr>
            <a:xfrm>
              <a:off x="2984400" y="3206880"/>
              <a:ext cx="3035520" cy="253980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9" name="Picture 6" descr="http://cdn01.faithfulprovisions.com/wp-content/uploads/2012/02/Walmart.jpg"/>
            <p:cNvPicPr/>
            <p:nvPr/>
          </p:nvPicPr>
          <p:blipFill>
            <a:blip r:embed="rId3"/>
            <a:stretch/>
          </p:blipFill>
          <p:spPr>
            <a:xfrm>
              <a:off x="3234600" y="4140360"/>
              <a:ext cx="2535120" cy="67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TextBox 11"/>
            <p:cNvSpPr/>
            <p:nvPr/>
          </p:nvSpPr>
          <p:spPr>
            <a:xfrm>
              <a:off x="3695400" y="3454200"/>
              <a:ext cx="1845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termediary (Retailer)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" name="Group 15"/>
          <p:cNvGrpSpPr/>
          <p:nvPr/>
        </p:nvGrpSpPr>
        <p:grpSpPr>
          <a:xfrm>
            <a:off x="6210360" y="3873600"/>
            <a:ext cx="2768400" cy="2514600"/>
            <a:chOff x="6210360" y="3873600"/>
            <a:chExt cx="2768400" cy="2514600"/>
          </a:xfrm>
        </p:grpSpPr>
        <p:sp>
          <p:nvSpPr>
            <p:cNvPr id="202" name="Oval 5"/>
            <p:cNvSpPr/>
            <p:nvPr/>
          </p:nvSpPr>
          <p:spPr>
            <a:xfrm>
              <a:off x="6210360" y="3873600"/>
              <a:ext cx="2768400" cy="251460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3" name="Picture 7" descr=""/>
            <p:cNvPicPr/>
            <p:nvPr/>
          </p:nvPicPr>
          <p:blipFill>
            <a:blip r:embed="rId4"/>
            <a:stretch/>
          </p:blipFill>
          <p:spPr>
            <a:xfrm>
              <a:off x="6692760" y="4813200"/>
              <a:ext cx="1803240" cy="135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TextBox 14"/>
            <p:cNvSpPr/>
            <p:nvPr/>
          </p:nvSpPr>
          <p:spPr>
            <a:xfrm>
              <a:off x="6908760" y="415188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onsum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206" name="TextBox 16"/>
          <p:cNvSpPr/>
          <p:nvPr/>
        </p:nvSpPr>
        <p:spPr>
          <a:xfrm>
            <a:off x="711360" y="668160"/>
            <a:ext cx="787320" cy="3988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b05"/>
                </a:solidFill>
                <a:latin typeface="Arial"/>
              </a:rPr>
              <a:t>5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Box 17"/>
          <p:cNvSpPr/>
          <p:nvPr/>
        </p:nvSpPr>
        <p:spPr>
          <a:xfrm>
            <a:off x="3073320" y="184320"/>
            <a:ext cx="4673520" cy="3697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3408f"/>
                </a:solidFill>
                <a:latin typeface="Arial"/>
              </a:rPr>
              <a:t>Service business</a:t>
            </a: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33360" y="1765440"/>
            <a:ext cx="4422960" cy="396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ntists, doctors, lawyers, painters, pet sit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stest growing part of the economy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than 60% of all U.S. employment is in service-produc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5" descr="key terms box"/>
          <p:cNvPicPr/>
          <p:nvPr/>
        </p:nvPicPr>
        <p:blipFill>
          <a:blip r:embed="rId1"/>
          <a:stretch/>
        </p:blipFill>
        <p:spPr>
          <a:xfrm>
            <a:off x="4627440" y="1913040"/>
            <a:ext cx="4383360" cy="4187880"/>
          </a:xfrm>
          <a:prstGeom prst="rect">
            <a:avLst/>
          </a:prstGeom>
          <a:ln w="0">
            <a:noFill/>
          </a:ln>
        </p:spPr>
      </p:pic>
      <p:sp>
        <p:nvSpPr>
          <p:cNvPr id="211" name="Text Box 6"/>
          <p:cNvSpPr/>
          <p:nvPr/>
        </p:nvSpPr>
        <p:spPr>
          <a:xfrm>
            <a:off x="4932360" y="2693880"/>
            <a:ext cx="3733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3d"/>
                </a:solidFill>
                <a:latin typeface="Arial"/>
              </a:rPr>
              <a:t>Service bus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ries out activities that are consumed by its customer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1"/>
          <p:cNvSpPr/>
          <p:nvPr/>
        </p:nvSpPr>
        <p:spPr>
          <a:xfrm>
            <a:off x="711360" y="668160"/>
            <a:ext cx="787320" cy="3988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b05"/>
                </a:solidFill>
                <a:latin typeface="Arial"/>
              </a:rPr>
              <a:t>5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Box 6"/>
          <p:cNvSpPr/>
          <p:nvPr/>
        </p:nvSpPr>
        <p:spPr>
          <a:xfrm>
            <a:off x="3073320" y="184320"/>
            <a:ext cx="4673520" cy="3697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40000"/>
                </a:solidFill>
                <a:latin typeface="Arial"/>
              </a:rPr>
              <a:t>Types of Businesses Activity</a:t>
            </a:r>
            <a:r>
              <a:rPr b="1" lang="en-US" sz="3200" spc="-1" strike="noStrike">
                <a:solidFill>
                  <a:srgbClr val="b40000"/>
                </a:solidFill>
                <a:latin typeface="Arial"/>
              </a:rPr>
              <a:t>	</a:t>
            </a: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320400" y="2158920"/>
            <a:ext cx="8669160" cy="396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partn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he internet, create three list of business in 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York County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by organizing them into types. Producers/Intermediary/Serv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team with the most correct businesses win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3"/>
          <p:cNvSpPr/>
          <p:nvPr/>
        </p:nvSpPr>
        <p:spPr>
          <a:xfrm>
            <a:off x="711360" y="668160"/>
            <a:ext cx="787320" cy="3988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b05"/>
                </a:solidFill>
                <a:latin typeface="Arial"/>
              </a:rPr>
              <a:t>5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4"/>
          <p:cNvSpPr/>
          <p:nvPr/>
        </p:nvSpPr>
        <p:spPr>
          <a:xfrm>
            <a:off x="3073320" y="184320"/>
            <a:ext cx="4673520" cy="3697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reading guide copy"/>
          <p:cNvPicPr/>
          <p:nvPr/>
        </p:nvPicPr>
        <p:blipFill>
          <a:blip r:embed="rId1"/>
          <a:stretch/>
        </p:blipFill>
        <p:spPr>
          <a:xfrm>
            <a:off x="420840" y="1195560"/>
            <a:ext cx="8467560" cy="501156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3"/>
          <p:cNvSpPr/>
          <p:nvPr/>
        </p:nvSpPr>
        <p:spPr>
          <a:xfrm>
            <a:off x="1093680" y="2097000"/>
            <a:ext cx="21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40000"/>
                </a:solidFill>
                <a:latin typeface="Arial"/>
              </a:rPr>
              <a:t>The Main Id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4"/>
          <p:cNvSpPr/>
          <p:nvPr/>
        </p:nvSpPr>
        <p:spPr>
          <a:xfrm>
            <a:off x="968400" y="2579760"/>
            <a:ext cx="71438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1880" indent="-461880">
              <a:lnSpc>
                <a:spcPct val="100000"/>
              </a:lnSpc>
              <a:spcBef>
                <a:spcPts val="11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5"/>
          <p:cNvSpPr/>
          <p:nvPr/>
        </p:nvSpPr>
        <p:spPr>
          <a:xfrm>
            <a:off x="1093680" y="2565360"/>
            <a:ext cx="7229520" cy="13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lessons describes changes that have occurred in the U.S. employment and changes in the types and numbers of busin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5"/>
          <p:cNvSpPr/>
          <p:nvPr/>
        </p:nvSpPr>
        <p:spPr>
          <a:xfrm>
            <a:off x="711360" y="668160"/>
            <a:ext cx="787320" cy="3988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b05"/>
                </a:solidFill>
                <a:latin typeface="Arial"/>
              </a:rPr>
              <a:t>5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6"/>
          <p:cNvSpPr/>
          <p:nvPr/>
        </p:nvSpPr>
        <p:spPr>
          <a:xfrm>
            <a:off x="3073320" y="184320"/>
            <a:ext cx="4673520" cy="3697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40000"/>
                </a:solidFill>
                <a:latin typeface="Arial"/>
              </a:rPr>
              <a:t>What do you know about current businesses and the economy?</a:t>
            </a: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20400" y="2158920"/>
            <a:ext cx="8669160" cy="396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1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-Test – With one partner complete the pre-te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3"/>
          <p:cNvSpPr/>
          <p:nvPr/>
        </p:nvSpPr>
        <p:spPr>
          <a:xfrm>
            <a:off x="711360" y="668160"/>
            <a:ext cx="787320" cy="3988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b05"/>
                </a:solidFill>
                <a:latin typeface="Arial"/>
              </a:rPr>
              <a:t>5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4"/>
          <p:cNvSpPr/>
          <p:nvPr/>
        </p:nvSpPr>
        <p:spPr>
          <a:xfrm>
            <a:off x="3073320" y="184320"/>
            <a:ext cx="4673520" cy="3697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40000"/>
                </a:solidFill>
                <a:latin typeface="Arial"/>
              </a:rPr>
              <a:t>Partner Activity </a:t>
            </a: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20400" y="2158920"/>
            <a:ext cx="8669160" cy="396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1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ner up! (groups of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uminum Foil 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34272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a product out of aluminum fo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34272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a sales pitch to share with the class that highlights your produ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34272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a list of the six basic activities that business per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3"/>
          <p:cNvSpPr/>
          <p:nvPr/>
        </p:nvSpPr>
        <p:spPr>
          <a:xfrm>
            <a:off x="711360" y="668160"/>
            <a:ext cx="787320" cy="3988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b05"/>
                </a:solidFill>
                <a:latin typeface="Arial"/>
              </a:rPr>
              <a:t>5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4"/>
          <p:cNvSpPr/>
          <p:nvPr/>
        </p:nvSpPr>
        <p:spPr>
          <a:xfrm>
            <a:off x="3073320" y="184320"/>
            <a:ext cx="4673520" cy="3697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40000"/>
                </a:solidFill>
                <a:latin typeface="Arial"/>
              </a:rPr>
              <a:t>Roles of Businesses pg 104</a:t>
            </a: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-360" y="1841400"/>
            <a:ext cx="8669160" cy="396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47840" indent="-447840">
              <a:lnSpc>
                <a:spcPct val="11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the six basic activities that businesses perfor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96040" indent="-33552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ting Id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6040" indent="-33552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ising cap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6040" indent="-33552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ploying and training personne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6040" indent="-33552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ying goods and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6040" indent="-33552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taining business records (Account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6040" indent="-33552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keting goods and services (Market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6040" indent="-33552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6040" indent="-33552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11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3"/>
          <p:cNvSpPr/>
          <p:nvPr/>
        </p:nvSpPr>
        <p:spPr>
          <a:xfrm>
            <a:off x="711360" y="668160"/>
            <a:ext cx="787320" cy="3988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b05"/>
                </a:solidFill>
                <a:latin typeface="Arial"/>
              </a:rPr>
              <a:t>5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4"/>
          <p:cNvSpPr/>
          <p:nvPr/>
        </p:nvSpPr>
        <p:spPr>
          <a:xfrm>
            <a:off x="3073320" y="184320"/>
            <a:ext cx="4673520" cy="3697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Rectangle 1" descr=""/>
          <p:cNvPicPr/>
          <p:nvPr/>
        </p:nvPicPr>
        <p:blipFill>
          <a:blip r:embed="rId3"/>
          <a:stretch/>
        </p:blipFill>
        <p:spPr>
          <a:xfrm>
            <a:off x="7315200" y="2341440"/>
            <a:ext cx="1249200" cy="40467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40000"/>
                </a:solidFill>
                <a:latin typeface="Arial"/>
              </a:rPr>
              <a:t>Employment Data in the U.S. </a:t>
            </a: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295200" y="1841040"/>
            <a:ext cx="8669520" cy="501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10000"/>
              </a:lnSpc>
              <a:spcBef>
                <a:spcPts val="649"/>
              </a:spcBef>
              <a:buSzPct val="12665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spcBef>
                <a:spcPts val="649"/>
              </a:spcBef>
              <a:buSzPct val="12665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 Employment Da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4"/>
          <p:cNvSpPr/>
          <p:nvPr/>
        </p:nvSpPr>
        <p:spPr>
          <a:xfrm>
            <a:off x="711360" y="668160"/>
            <a:ext cx="787320" cy="3988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b05"/>
                </a:solidFill>
                <a:latin typeface="Arial"/>
              </a:rPr>
              <a:t>5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5"/>
          <p:cNvSpPr/>
          <p:nvPr/>
        </p:nvSpPr>
        <p:spPr>
          <a:xfrm>
            <a:off x="3073320" y="184320"/>
            <a:ext cx="4673520" cy="3697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40000"/>
                </a:solidFill>
                <a:latin typeface="Arial"/>
              </a:rPr>
              <a:t>Employment Data in the U.S. </a:t>
            </a: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5200" y="1841040"/>
            <a:ext cx="8669520" cy="501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10000"/>
              </a:lnSpc>
              <a:spcBef>
                <a:spcPts val="649"/>
              </a:spcBef>
              <a:buSzPct val="12665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spcBef>
                <a:spcPts val="649"/>
              </a:spcBef>
              <a:buSzPct val="12665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at year kicked off the start of the baby boomers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spcBef>
                <a:spcPts val="649"/>
              </a:spcBef>
              <a:buSzPct val="12665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spcBef>
                <a:spcPts val="649"/>
              </a:spcBef>
              <a:buSzPct val="12665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4"/>
          <p:cNvSpPr/>
          <p:nvPr/>
        </p:nvSpPr>
        <p:spPr>
          <a:xfrm>
            <a:off x="711360" y="668160"/>
            <a:ext cx="787320" cy="3988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b05"/>
                </a:solidFill>
                <a:latin typeface="Arial"/>
              </a:rPr>
              <a:t>5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5"/>
          <p:cNvSpPr/>
          <p:nvPr/>
        </p:nvSpPr>
        <p:spPr>
          <a:xfrm>
            <a:off x="3073320" y="184320"/>
            <a:ext cx="4673520" cy="3697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Rectangle 1" descr=""/>
          <p:cNvPicPr/>
          <p:nvPr/>
        </p:nvPicPr>
        <p:blipFill>
          <a:blip r:embed="rId5"/>
          <a:stretch/>
        </p:blipFill>
        <p:spPr>
          <a:xfrm>
            <a:off x="2243160" y="2749680"/>
            <a:ext cx="4664160" cy="16142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5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40000"/>
                </a:solidFill>
                <a:latin typeface="Arial"/>
              </a:rPr>
              <a:t>Employment Data in the U.S. </a:t>
            </a: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295200" y="1841040"/>
            <a:ext cx="8669520" cy="501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10000"/>
              </a:lnSpc>
              <a:spcBef>
                <a:spcPts val="649"/>
              </a:spcBef>
              <a:buSzPct val="12665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spcBef>
                <a:spcPts val="649"/>
              </a:spcBef>
              <a:buSzPct val="12665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2014 what percent of  jobs are held by women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is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4"/>
          <p:cNvSpPr/>
          <p:nvPr/>
        </p:nvSpPr>
        <p:spPr>
          <a:xfrm>
            <a:off x="711360" y="668160"/>
            <a:ext cx="787320" cy="3988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b05"/>
                </a:solidFill>
                <a:latin typeface="Arial"/>
              </a:rPr>
              <a:t>5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5"/>
          <p:cNvSpPr/>
          <p:nvPr/>
        </p:nvSpPr>
        <p:spPr>
          <a:xfrm>
            <a:off x="3073320" y="184320"/>
            <a:ext cx="4673520" cy="3697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Rectangle 1" descr=""/>
          <p:cNvPicPr/>
          <p:nvPr/>
        </p:nvPicPr>
        <p:blipFill>
          <a:blip r:embed="rId3"/>
          <a:stretch/>
        </p:blipFill>
        <p:spPr>
          <a:xfrm>
            <a:off x="3389400" y="2762280"/>
            <a:ext cx="2365200" cy="16081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1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3408f"/>
                </a:solidFill>
                <a:latin typeface="Arial"/>
              </a:rPr>
              <a:t>What Percent of U.S. Workforce is made up of Contingent Workers?</a:t>
            </a: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pic>
        <p:nvPicPr>
          <p:cNvPr id="156" name="Picture 5" descr="key terms box"/>
          <p:cNvPicPr/>
          <p:nvPr/>
        </p:nvPicPr>
        <p:blipFill>
          <a:blip r:embed="rId1"/>
          <a:stretch/>
        </p:blipFill>
        <p:spPr>
          <a:xfrm>
            <a:off x="4627440" y="2693880"/>
            <a:ext cx="4383360" cy="340704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6"/>
          <p:cNvSpPr/>
          <p:nvPr/>
        </p:nvSpPr>
        <p:spPr>
          <a:xfrm>
            <a:off x="4932360" y="3294000"/>
            <a:ext cx="373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3d"/>
                </a:solidFill>
                <a:latin typeface="Arial"/>
              </a:rPr>
              <a:t>Contingent work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 no contract for long-term employ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5"/>
          <p:cNvSpPr/>
          <p:nvPr/>
        </p:nvSpPr>
        <p:spPr>
          <a:xfrm>
            <a:off x="711360" y="668160"/>
            <a:ext cx="787320" cy="3988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b05"/>
                </a:solidFill>
                <a:latin typeface="Arial"/>
              </a:rPr>
              <a:t>5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6"/>
          <p:cNvSpPr/>
          <p:nvPr/>
        </p:nvSpPr>
        <p:spPr>
          <a:xfrm>
            <a:off x="3073320" y="184320"/>
            <a:ext cx="4673520" cy="3697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Rectangle 1" descr=""/>
          <p:cNvPicPr/>
          <p:nvPr/>
        </p:nvPicPr>
        <p:blipFill>
          <a:blip r:embed="rId2"/>
          <a:stretch/>
        </p:blipFill>
        <p:spPr>
          <a:xfrm>
            <a:off x="1096920" y="3230640"/>
            <a:ext cx="2365560" cy="16034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8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2T22:01:37Z</dcterms:created>
  <dc:creator>Nigel Wright</dc:creator>
  <dc:description/>
  <dc:language>en-US</dc:language>
  <cp:lastModifiedBy>bstromes</cp:lastModifiedBy>
  <dcterms:modified xsi:type="dcterms:W3CDTF">2014-10-27T19:00:55Z</dcterms:modified>
  <cp:revision>124</cp:revision>
  <dc:subject/>
  <dc:title>Slide 1</dc:title>
</cp:coreProperties>
</file>